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528-7063-423A-A014-7A83C27F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349-BB43-49E5-83F8-911CA19A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AD8-4E57-4445-A3F0-F304F07E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BFE-703C-4080-8A77-37CADE7A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4151-6353-4EA3-A7AD-00732058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69B3-080C-466F-A70D-1F61ACD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EE8B-9D08-42EF-86AF-1358E460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03DA-D454-4296-9E9D-1165F5B1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2329-FE96-4276-83D1-5D960403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637D-02F0-4197-B503-86336AC2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6A35-0845-4B4F-8CB5-0494FAD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DA0-B48D-4101-A438-7C1762BE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A37D-5EC0-47A7-924A-B850D95A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EA3E-BE7A-4526-8939-B06C128F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91A2-DF6D-42E3-A632-21602286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374-7F3E-449E-B268-3C9DF330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F6FA-01FC-4D60-9321-6A0B6888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0873-512B-4E31-8F19-697F28A9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EA97-4DC2-4DD2-8052-F044801B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F1699-0D74-4378-AF9B-1153F0DA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927A-806D-48D3-926E-337C32E4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C857-9DC3-4A1E-B3A0-C4C088DC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FD1-4986-45FF-A463-E1CD4D9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BD51-2774-4679-B7EC-68DB61B1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D10A-D96E-48CC-8369-4A29126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58B6-AD3B-40AF-AA67-09D98B2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E8159-0F45-4707-8320-5256ADB4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F773-AB2A-4230-8722-FB03F980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F8AB-1E6D-434C-968E-80CE8687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F042-83A8-43AD-A76D-447DFEFC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2C3-CC9E-4ACE-A50D-A6646813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C74-F921-4943-AB36-DD8D2983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EAB-4F25-4067-A138-FF172D44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2DB-5FBD-4D66-B0E3-D363CB9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D4B-8130-4151-990C-D3F00F99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FCE-03E4-455F-B8CC-E4F939D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fld id="{D6D5FB0B-C275-406D-9090-4F2140D6A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85EA-B47C-44B2-B5BE-7A4534A3CD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30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132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33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36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38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139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140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8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2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8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9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0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1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2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3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4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5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FDA75995-96FD-4797-8BDF-A9BE5F3DACC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3615-7C6D-4A2D-92BF-A6082C1D9923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7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31 de may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res?¿Como e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L.O- to learn to differentiate between “ser” and “est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B7F1CCBB-7AB1-4B5F-98B6-D3D8758EA966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5" name="Picture 5" descr="en00508_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1179BA0-2EC7-4812-8287-8D496BAF4D92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0" name="Picture 6" descr="bs01001_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932FEA9-BFDF-4F97-A9CE-03F57A9A9FF1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09645E8B-0558-45DF-8D46-311E840E57EC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yo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7" name="Picture 5" descr="an00106_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8B40794-0F56-43A6-9DC7-3C1A9804A83A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ocup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71" name="Picture 5" descr="pe03704_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4165238B-1AA6-40A9-B69B-DB7AC83F0E1C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ugando bien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75" name="Picture 5" descr="j0079256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2: Capitulo 6 on THURSDAY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 200-2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D0AD-CECA-4610-B93F-55265B9DBD26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71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3518DD96-AE29-4EFD-8045-5AD9145521ED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3" name="Picture 5" descr="bs01923_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774621B8-8AFE-4532-9FFD-13C3D8AC62C5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DB08A2BD-06EF-42DC-A2DB-12C8DF87DC8F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232" name="Picture 5" descr="bd05558_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8F43CCEC-A72C-43B8-A82B-416A385FD44A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D4D902CC-6A97-4DEF-89A3-6B09CE134582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39" name="Picture 6" descr="BD05680_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911FF897-5359-4488-886A-6A795324300F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lumn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3" name="Picture 5" descr="PE01460_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86B498B3-DAA7-4465-A995-50777C516314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7" name="Picture 5" descr="bd06630_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F8C0E184-9CF5-4A70-A745-027F2167BDC7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l 16 de abri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1" name="Picture 5" descr="bs00965_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cp:lastPrinted>2015-03-17T13:02:03Z</cp:lastPrinted>
  <dcterms:modified xsi:type="dcterms:W3CDTF">2016-05-31T20:09:02Z</dcterms:modified>
  <cp:revision>115</cp:revision>
  <dc:subject/>
  <dc:title>Ser &amp; Estar</dc:title>
</cp:coreProperties>
</file>